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DC4-ED1C-4CDF-9AC1-E10C5545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B64-3CA2-4CF4-9248-7F79E33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FF3D9-CAF2-40FE-8555-F9787C9D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5286B-CB78-45C8-9C02-A00AD282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80476-6AD3-44E9-A214-3DF3F268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80AB7-488B-45E2-89C5-46D5976E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B43E1-B413-4A03-BB9D-13FF8DC5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56495-14A9-4A98-A353-8EC4B4D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6B938-C031-49A7-8005-B8D1D5C7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8CBD6-0439-4766-AB17-1937C78D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AA0DB-D601-4FF5-AA1D-D1B010DE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E2ED3-0252-4558-BD27-ADC74EB8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A73-F1DC-4AA2-9456-319A71B0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4F0F6-C62E-42FA-B4D1-1A964112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3954A-F484-4E56-9AA0-0EB519B5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22D62-9C85-41C6-909C-6B97211D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DABE9-5BA9-4A4E-8AF0-07B5EF22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3441A-2D46-43AC-9EDC-327F8542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814B5-88DB-4482-B96E-FC30479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4C4DE-4941-43DD-9548-40AE8EFB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3DDE0-1EE7-4B1A-BC18-BAE424B2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F49E6-630D-40D5-AB91-6715B263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5C403-DCCF-45D6-8E54-F692D185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59B-63D0-4B39-B177-BAADA344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45B1C-BB2C-4F90-B5AF-3F5E67B5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3F695-0776-4E6C-BC71-41602B12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9A78-D4CE-4721-A6A9-1E3A24A4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5D9E5-E968-4184-AD6C-62E13119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37FB3-9D60-4A13-B940-058B4351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5295B-4730-47AC-B015-D81AB54A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D2DDC-E07B-4FB5-B0F5-A25600D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218C0-F080-4011-8A7F-15D21F14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D61A5-79A1-4F8B-A605-10C4D16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41787-F262-42E1-9A13-B1E34FEF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F01D-39F5-46EA-ABA6-BE7CA7CA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F4D03-C0BC-49D3-A8E5-F984858E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93298-2CF0-4337-97F9-35C7E6B1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0A211-823E-4AC9-A0F0-98AC7CD0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833F3-F274-4C47-A574-E675EE58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FE0C6-4B08-4055-9577-208808EC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924C8-8ADF-479B-8CE2-A9C932DC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2B2CF-F1E6-47BB-ACB6-AD351B95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5FC91-43E0-4AF0-AAB0-923A6453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0B2AC-E645-4528-9409-2F1ACD7A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FA4D3-19E4-4905-BFA4-C417F286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7C51-6A75-4AD0-A5CB-0F4B03BC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D70A3-E909-4282-9CE7-2C237380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EA365-BBA2-497F-90FE-51F8A6A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C5E7A-E39E-4ADD-8DB5-9D1F8E3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985A2-36F4-4ABE-88ED-36EDFB56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B5C3E-3DD3-41B3-B256-6843279A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19751-CC56-4BBE-A53B-B362A31A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91973-B414-4076-9258-1EDF9464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816F4-AED4-4268-91F0-02C09B8C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A20A6-B96E-48BF-A7AD-964B075F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EB22E-C41C-4058-A1E9-917FAD41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C9E0-0932-4B4B-A942-661DD955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F82FE-BBF8-4D73-9ED0-FA15C9ED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F5AA1-4468-4EB4-BE09-049A7A43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A6486-96B1-48E2-B50A-42A7A803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E5165-1ADF-4033-9A1B-0B27623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C8EBB-9D7C-49B5-97CF-E1EE936E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612C0-F758-4D49-8FE2-90F60909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01004-7C5A-4E51-B320-7E766701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09A5B-0E51-4CD0-A256-1BCDABC7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A5E6B-D1D2-4934-8320-24B8FBA9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D9E95-1A8B-4265-A0C5-E59230BF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D32F-C6C9-43A5-B4F4-5A421857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1EEF1-1B67-45E3-9695-0988D26E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9C7D9-1CCB-480A-BA29-D36096AD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FCC23-F5A1-49B0-8448-C1936929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70B6C-50E2-4F00-A7E8-4491FED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F7471-3553-4C1D-A705-8ACFFA33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655A8-95DD-431B-A4E8-51BDF1A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E8752-83FE-45BE-8C14-D60DFB22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33A16-6646-494E-A500-5D054D56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4FAA2-04F0-4EB8-A748-007B2DC1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9FD72-4872-4938-AA04-5B5EB8D4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8851-B021-4095-92DB-6F676DA4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390A9-F20A-4EA2-B9AC-11472E8F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4DD84-89DA-4C45-BAA4-EF430C26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5CAAE8-CBF1-4E48-87AC-9CDE0C8A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9DE15-7536-4DD3-8616-A37D35DC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35F00-8D32-473E-AD09-51451B87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DC919-8047-42B5-B97C-F5ACBBE1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256E2-37A3-4DEE-A6A3-EC47C7A4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99D0B-2D0A-41DD-8E63-5E8F7E0C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8438C-9DB8-4108-95CC-C08C2036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BDCC1-8A15-4F9C-9B07-F551DA02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12D2-C6E9-4000-B49E-3AC894A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D262A-0D60-4E7D-B772-C78C4708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F8E25-122F-47C1-A1CD-DBB2BA16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F4957-3BD3-4412-9473-3D3F40E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14220-F837-4925-81E7-9C88D7E5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8D6B5-B321-4D05-9B02-7182860B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ACCDA-C2A8-4CA0-8244-428137D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EC37D-2368-40CC-89A0-3F62520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63AC8-8B65-42F8-A612-0592CE6D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EF550-F288-46E4-A15E-07F1481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4A56D-A896-446D-8990-DE9DC678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373C-129B-4B2E-AEA8-AFD5D7C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D0D5A-1683-459B-BAB8-7B9F3FD0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EEBFB-55CD-450C-BB25-42260147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E5438-8ED8-4F3D-94CC-34D0CF14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2101CB-4A00-4C97-9B2D-54ADCD81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3A989-DF75-4708-B865-B73B44A7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58D7D-F0DB-4CF4-AC06-5709E3C6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3FF2B-865A-4A11-A278-C5B6B035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A1215-C0B1-4F26-8F1B-6BD0494B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2B57E-086E-4FFF-B457-35103C17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1A1CC-E535-4FFE-ADA9-318A1E46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A8A-3B1E-4AA8-98E8-AE5A965E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3B4B-69A0-45E1-9008-687AEEF6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8FD33-9DC1-43CC-B239-87C7D486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50F52-BBCF-417D-8F9C-BF859A7A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6BEA9B-B69D-4614-8A7C-8FCE50F0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14232-318E-4AA3-A8C6-BE35D366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24991-E111-4185-8D12-50844D25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6D3AE-EEB6-4E39-8CD7-D8B24C8A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4461BC-4320-4A80-ACA3-313A89BA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682D8-CF9D-4444-A55A-F20873DD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B25D0E-1D75-4FC9-ABF5-503B37B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97993C-6F48-4DB9-A06C-9A2E112C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7FE9-2845-46F6-89A1-189CDE30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98D6B-8060-4293-88BB-7462E25D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4D177-341F-4C5A-ACBC-A627BC9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BF955-908B-4032-AB3C-8FB62C3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5DE0D-875D-48E4-AE76-90A58A15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7AC560-D94A-40F7-BCC6-BAAEF71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BCC4C-5E1F-46CE-BFFA-21BBC4F6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D2B2A-409E-4C58-82BA-2F40F13C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677BC-716D-4901-A552-1A9E5325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CE36C-04B0-4D28-A06A-DBA5A8DA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BF97C-3A34-42BD-9E56-ECFEE3B0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C98B-20A2-4A37-B071-652D5197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84E49-33D0-463D-B222-7BDF3B02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A97B4A-30A8-42E7-8CA3-170A758B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567A17-4229-4015-8D13-C6BF58E9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AAF53D-B2CE-4DD7-BD94-A3D055C2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D9D77-2461-441E-AC21-BA79AB70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2FE33-2872-4D6F-8664-45D469F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68064C-C94D-42CB-A871-FF40AB1F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56947-8F88-4A99-83A3-374E3A9C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796C6-D3F2-4448-B23C-561C7877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83A9AD-C167-4142-9243-571EBD5A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880A-4F5D-4A44-9166-CAA329AE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4B9AFF-9296-4CAB-8007-8ACFE00B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76A18-85F4-4127-8F6A-01075A13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2F0DB-25D7-4D5F-BEE8-592C177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5DE54-BEFE-4120-9E7C-C952EB41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46AFF-AD42-4CE3-AE4D-45F4527F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F512E-BC9B-416F-A08B-2AF85EE4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C5894-663B-4C61-B17B-9765370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FBD1F8-0ED2-4D4D-9CB5-008628B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B611D-316B-428B-A3E9-B285F39E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AD492-3A09-4647-A579-1588B467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F0F6-4192-4E13-AAF2-5E09D37D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E6921-2845-4FB9-885E-77F1CA2C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F6CE0-2804-4F0E-BDBC-77ED412F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B2F5B-197C-4E32-A65B-7A1CA05C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C724C-E3C8-4B17-BE02-D2B32C68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79145-BF2C-4F20-8C58-B4ACB7FD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604AE2-82C2-483D-818E-E72A1273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3DF1D-A7B1-4260-9DD9-4C1E8C25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8BE4C-F12D-451E-82A8-06B3C1A4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4B1EA6-6B3E-4B4C-9F0B-10149F3E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1D3ED-2585-486E-842A-483BC344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1EEC-3EFE-447B-8EF5-843BD124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6D9CDA-4561-4F6D-9E88-00ADE645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A2DA68-0B22-4F2D-8213-34C86EF5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11B29-BCF8-48D6-B500-F1BF0C55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9311-8C1F-4B44-AF47-A9314172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E8140-E735-4117-8208-134A2157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25C9-07BE-4909-A32D-F6F630A2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DD29-C7BE-4215-A512-4727D466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687-F13C-485D-BE04-B1DE9E5F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32C5-E314-4C88-80C8-31351472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53E8-43F4-4B1C-A4A0-4DC3AD5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54A7-8A24-4E9A-A401-22B72D30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8BCD-DBAC-43F3-8294-A9E7EE87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416E-7EB4-4619-8CD8-4117D302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8957-EC13-4111-9446-6A1ABF5F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79AE-54A4-4C06-B66D-0D633351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91D5-1452-42FC-876A-0F22E47E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08C8-2E15-4331-9248-7ABB1CCA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92AC-3107-4556-8EDA-1F3BC748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6E7-0D67-43FA-9448-1BFC3541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4674-8227-45EB-A31B-FFA069FB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6F19-5D5F-4A07-A0F3-21BFBEFC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EC0B-DDCF-4A2B-95CD-5C143FE6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FB3B1-1C80-4AE1-A31F-83CB7726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3675-57CC-484E-8597-82E010E1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83B8-E2A5-410C-8644-447F4128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74540-17AC-4369-AEB1-EB3E6211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1275-17B3-4A42-93FD-3A5D582C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515E5-122C-4BA2-B02E-BF7EA031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DE8E2-8882-4AD0-A462-8B4E9543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81D-8D18-41B5-B673-60F04202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9D9F0-F4DF-4691-9539-0FD8182E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25826-48AE-4DF2-8C8F-C4BD0466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B4F1-1D5B-4C6F-B945-A6EDF723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51CBB-3D02-4E33-9E7B-7EC916D1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FC3E8-8DEB-4DBA-A12D-0E3760C1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37CC-5F5A-40BD-9101-970AAA3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43798-EF97-4075-ACF1-03AB01F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6A58-1E4E-4EDA-9E9F-DB6CF9D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C33A-E1DB-4247-BB6C-07761515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16C80-B1E0-4538-A146-C62B6EF6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B46-0A78-4DBC-A024-5E195707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D762F-E372-48B3-A9CE-8C39DDCE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B50CD-CB40-4C44-90F2-9C120D03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66BE1-3EA4-4E64-B716-B855051C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1BA8F-E491-44C9-93A2-09A3E354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61B80-547E-4B54-B4EA-2250EEBB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ABD12-D994-4621-B08E-B5B8CB34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D0EC0-8754-4705-93A8-51AB4657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E4A6C-3DB9-46A1-BEFE-871DBD5D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7F514-0880-42EC-98EB-AA636C7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05DC-B0BD-4B2C-94AF-1F4CAB74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4BD-28E1-4EC3-9265-59FD7ED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6E265-9925-4D48-8BA4-5C65C05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9D1B8-F6DC-46A1-85F3-4D39B64A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002BF-B542-4508-8FA6-E6894581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FCB9D-F0F8-46F6-8663-824244F7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5AEE-E440-4090-A9FC-737C6970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A7676-BE09-4D40-BA7C-4C886CEC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8B70-AA24-418E-93C1-6E79406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FE70-C791-4682-9769-069CEB21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0BA3F-D33F-4A7D-85D0-1F7B1B2B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B06EC-03A1-441C-BBE1-E93325EB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804-100C-4980-95D2-96BCE745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6EAEF-20C4-4A41-A0B9-FB0DC0B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FC65A-D0E3-4D15-80C7-B4257E5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51160-28CE-4CB6-8D36-7CCDA8F0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A80D6-4250-4018-9E7B-4AD36EF6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F3BC6-2977-42E4-82B2-005AC5ED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493E2-89DD-472D-BD60-4231EC76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21FEA-A02A-4124-98A0-2EA5F844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BFBDC-6272-4C98-97F4-06169385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2C522-AEE0-48D6-AFD5-334110DA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44300-3181-4A3D-9096-F55651D3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E10-10E9-43D1-BA35-EDAF62E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CA654-FC23-4734-A522-8F3F0945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46B42-DD1B-439D-800A-A809382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5F400-C297-4016-A8FA-423CA6D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ED4D3-941C-4F72-8235-CC15F14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C0D0F-37AD-4DCB-8995-FD2A92F0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0C359-0403-4F49-AFA4-E85A7CA4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380B2-3E08-44DF-8113-5273E70D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0173C-9C02-4DAE-918A-A7410BD7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0E539-8E88-429D-A573-A2445F96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4C1C8-062D-4CB4-80E1-ABCCA88B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09DB-94B3-4AD9-8D15-CFF08A3E5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677B-D122-4B12-A2A5-3B4E26460B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3C76-9BC1-40CD-9C61-47EA73859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4293-3A1B-4871-A9EE-0CF2F10B8D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420F-1A2C-424C-883F-C662A8CAF8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5AD0-4EC4-45D5-BC4D-A9E60497A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E23E-51A8-4620-9026-C1929588A3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1D87-451A-4CB9-81F7-50E73B6B5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B5C9-87AB-49D4-A965-598DBACE09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16E7-7F05-4947-92AF-9CB1A9FD35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3249-04F0-49B2-8094-F9E1240355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B1FD-2815-4A1C-B9E9-86DC38D502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032C-574E-47C8-A41F-77140ECAFD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63C-AB46-4C97-9A36-5A8D7FB8BA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07DB-632A-4A75-942F-80A09432A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696D-0FB7-43CB-99E0-E0C76DBC8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3E86-D718-447B-A13D-A0E8DA03D9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0F87-E96B-4BC8-9AEB-6EF85E72B8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6A57-E2A1-4BA9-9E30-D7CFDD6EC4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30E5-34F9-4E39-87D7-4126519AE0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6A24-ECE8-4A4D-A5EB-F6D752CF0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1A22-D6D3-4176-B4EA-99B81A8DB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E4A-D888-4BA9-8556-70D0A4594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4EBF-D50C-421A-98A8-23EACAC1C7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7B00-305F-491C-BC3F-0E71199931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2A91-A3C2-4CFF-B782-3E693EE7E8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B94B-4BB1-48A8-9B72-A16C38D0B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44DA-7BB7-4020-8B2C-C93A8E817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1D5-6DC7-488A-8642-AB70BF5433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495A-FBC9-4ACE-A2AF-DF109D904B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9ED9-7591-40E5-91B2-FB1B1258C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78FB-C1A0-40F7-A7BE-093B6A8716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2B58-4F8E-4EBB-A56C-10B1F371A0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404A-9748-4ED6-873E-0A3FD3698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EF23-CD3B-4AC6-8BDA-3D9185EB1B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AC27-6868-4E85-9F2B-6182F47EA8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292D-A90A-4627-BA68-6DA19014F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9203-2D1F-4C60-B336-A839215CD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304A-B703-4B58-B3B3-A44D3EFBE1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13EA-EBC8-44FD-9B1C-CC9317DE60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704960" y="3086280"/>
            <a:ext cx="57340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0" y="2374920"/>
            <a:ext cx="9144000" cy="2120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287280" cy="222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611280" y="2990880"/>
            <a:ext cx="287280" cy="222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611280" y="3259080"/>
            <a:ext cx="287280" cy="2206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11280" y="3495600"/>
            <a:ext cx="287280" cy="2206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611280" y="3762360"/>
            <a:ext cx="28728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0" y="1128600"/>
            <a:ext cx="9144000" cy="5015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622440" y="1484280"/>
            <a:ext cx="287280" cy="222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287280" cy="222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611280" y="3495600"/>
            <a:ext cx="287280" cy="220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601560" y="4483080"/>
            <a:ext cx="28728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4680" y="1109520"/>
            <a:ext cx="9134640" cy="5391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87280" cy="222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611280" y="1994040"/>
            <a:ext cx="287280" cy="2206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611280" y="2271600"/>
            <a:ext cx="287280" cy="2206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5"/>
          <a:stretch/>
        </p:blipFill>
        <p:spPr>
          <a:xfrm>
            <a:off x="611280" y="2492280"/>
            <a:ext cx="287280" cy="222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6"/>
          <a:stretch/>
        </p:blipFill>
        <p:spPr>
          <a:xfrm>
            <a:off x="611280" y="2827440"/>
            <a:ext cx="287280" cy="220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8" descr=""/>
          <p:cNvPicPr/>
          <p:nvPr/>
        </p:nvPicPr>
        <p:blipFill>
          <a:blip r:embed="rId7"/>
          <a:stretch/>
        </p:blipFill>
        <p:spPr>
          <a:xfrm>
            <a:off x="428760" y="4357800"/>
            <a:ext cx="8429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8:21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